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150-ED6F-411A-8ED6-222DB37A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05C-F416-49DB-B1C4-33176DE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2B8-1786-4DC7-AF9B-5449C1E4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C97-FA55-4B53-BD56-FFC5BFA6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DAB-B228-4966-B6C9-43D14ED7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C1F-EEF5-4626-A2D9-B76AC3E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FF4-B47D-4A2E-A58C-2552BB55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CB6-8385-4D8A-8742-CDDA7D99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E40-0AC2-41E9-B436-AEF62B6B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325-362A-4895-8B7A-836FE01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122-B423-418B-BC23-2CE85467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666-A72D-494E-9EAE-28DAA07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309E-B8BE-4989-85B9-C3AE582F7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عصُفُ الري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فسي لا تب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ثخُنُ الجِرا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َ أنسى ح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ربَكَ تُز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تمةُ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0"/>
            <a:ext cx="396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 وجهُكَ النع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يتني أ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طلٌ ع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ُ ما سِو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رغبتي أُ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حِما هوا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 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1T02:46:16Z</dcterms:modified>
  <cp:revision>7</cp:revision>
  <dc:subject/>
  <dc:title>PowerPoint Presentation</dc:title>
</cp:coreProperties>
</file>